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AE6-D294-494F-9C84-3B91D271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C59-F4E8-4FFD-97F3-556B0A85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E84-803B-4102-93BE-3361E47A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399-80DD-4271-9005-1BF7F5BE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B435-43B2-4477-97B5-D16A9890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D70B-4A14-4C13-9B54-7BB628B4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AFB-CD24-4E52-B995-39EFA9A3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378-FB92-48CD-90B8-B42A9306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C306-B8F0-4FAA-8848-B56F6EA4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EBAD-92B4-48C9-9D8E-0A62CAA9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F740-0C81-4993-A813-F39B6C69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398-E063-4FC3-BF0D-1897FED7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73F4-DDAE-4380-A610-6C690D73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6F6B-ABBA-4547-9CF8-5E7D18F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DF93-8B37-4A17-82BD-1F4FC14F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A612-1A1D-49CE-AFDE-641E45EB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07A9-4279-4729-8E30-18550186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0A0-BFCE-4095-A5C8-7AB14DD2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A7F-ACC9-4E6D-B80C-92CD4DF7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BFE-1628-406E-BDAB-43F8F118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529-077D-4AC3-9EED-81232D3B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22C-AE9A-4116-880D-49AB51B5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E12-AC54-4113-BBE0-B84D2092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6CD-26A1-4974-8206-2B8D7674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89FC7-0917-4E2A-A2FC-10D3C490768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4E6BB-7090-4FEE-AC7A-56AFE7541FE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AB18C-2A97-4AFD-9303-D1E0F905AF2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DE2CB-AF49-461B-8CFE-D7E01806B56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hEHQUMEkXw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eography.about.com/od/physicalgeography/a/rivers.htm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rosion Lab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Demetria Henderson &amp; Noelle Van E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gag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http://www.youtube.com/watch?v=ChEHQUMEkXw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k students to describe what is happening in the time-lapse video. What is changing, what is causing the changes?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lo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84800" y="1600200"/>
            <a:ext cx="340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eam table experiment: Students will make predictions about how erosional pattern will change with inclin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changes do students notice occurring as the slope of the stream table is varied?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9" name="Picture 7" descr="streamtable.jpg"/>
          <p:cNvPicPr/>
          <p:nvPr/>
        </p:nvPicPr>
        <p:blipFill>
          <a:blip r:embed="rId2"/>
          <a:stretch/>
        </p:blipFill>
        <p:spPr>
          <a:xfrm>
            <a:off x="60336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lan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09680" y="1600200"/>
            <a:ext cx="377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Rivers from Source to Sea” </a:t>
            </a:r>
            <a:r>
              <a:rPr b="0" lang="en-US" sz="19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http://geography.about.com/od/physicalgeography/a/rivers.htm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at agents make sediment move? Which ones did we investigate with our experiment? What forces cause sediment to resist movement? 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en shown a picture of a river, can students predict where the picture was taken with respect to the mountains (source) or sea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2" name="Picture 3" descr="V-shaped.jpg"/>
          <p:cNvPicPr/>
          <p:nvPr/>
        </p:nvPicPr>
        <p:blipFill>
          <a:blip r:embed="rId3"/>
          <a:stretch/>
        </p:blipFill>
        <p:spPr>
          <a:xfrm>
            <a:off x="1287360" y="1600200"/>
            <a:ext cx="3130560" cy="234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meandering-river.jpg"/>
          <p:cNvPicPr/>
          <p:nvPr/>
        </p:nvPicPr>
        <p:blipFill>
          <a:blip r:embed="rId4"/>
          <a:stretch/>
        </p:blipFill>
        <p:spPr>
          <a:xfrm>
            <a:off x="1733400" y="4275000"/>
            <a:ext cx="23288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labo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55760" y="1600200"/>
            <a:ext cx="373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late this lab to future labs on landforms. Why are deltas formed? Deltas are formed from erosion and deposition by river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re did the sediment from the top of our experimental box go? What is the correct name for that deposit?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6" name="Picture 3" descr="kenai-river-delta_1958.jpg"/>
          <p:cNvPicPr/>
          <p:nvPr/>
        </p:nvPicPr>
        <p:blipFill>
          <a:blip r:embed="rId2"/>
          <a:stretch/>
        </p:blipFill>
        <p:spPr>
          <a:xfrm>
            <a:off x="193680" y="1814400"/>
            <a:ext cx="4754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tens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students make predictions about where different sizes of sediment would be deposited if we used a mixture of large and small grain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8:49:44Z</dcterms:created>
  <dc:creator>Noelle Van Ee</dc:creator>
  <dc:description/>
  <dc:language>en-US</dc:language>
  <cp:lastModifiedBy>Noelle Van Ee</cp:lastModifiedBy>
  <dcterms:modified xsi:type="dcterms:W3CDTF">2011-06-22T19:26:08Z</dcterms:modified>
  <cp:revision>2</cp:revision>
  <dc:subject/>
  <dc:title>Erosion Lab</dc:title>
</cp:coreProperties>
</file>